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DB60-0F0C-4861-832C-B26861CC2D2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6ADB-0BDB-4EA8-AB87-164044EB026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A41-9B07-4797-A0B9-72226F39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070-884D-4532-8756-6CF4259A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261-117C-4A5E-8BFF-D421AD84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6A6-4816-4E84-B86A-7B9CCFC4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F765-2651-49EC-B630-FCD68064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8A34-1C88-45E4-AC10-62815ABD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DF84-EE4D-44F9-9037-24647924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DD3B-3177-4ED2-A000-667E49CC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0253-9CE7-4529-9D7D-12AE3B71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5792-BBFD-430B-940B-80DA040B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1912-505E-4D81-A4E8-403E3726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81F-CC93-42E3-BEA1-C57BDA86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5BCD-D7EE-4AE7-B58D-C272C50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920E-FAFF-4732-88C1-0FC4E4E5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AB41-7994-4924-9845-BB644CAC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EFDF-3333-4D33-9401-D0713616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C445-075B-4C4F-8359-298C75A1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95DE-5551-4681-949D-0E63C5A3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6426-5495-41E4-ADAB-9DCCAB06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AEB3F-826C-4858-A9B8-AAFA7B55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C21E-A060-456D-AA8A-07DD0E05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A0F1-D2B9-4B32-95CC-91071E47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C4B-E3CA-4B21-B36A-D4DB7A10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39D2-B2CC-4C0B-940A-BF2C47DA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7C22-B606-488E-BC5D-3FF973F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2BDE-9E28-467A-8559-A118832E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4075-1E42-46CF-A9D0-F0E78AFC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11E4-DDDA-4AAA-830A-CE71E9CC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3546-3E75-421C-9AD4-104A8390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435A-4C93-4E57-B8B6-E95C716A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25570-52F8-4082-B5A9-3FB3D20D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1E67F-0591-4A5C-9BDA-EDD06018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E880D-062B-46C4-AA22-DC97F214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DB1-1E7E-4086-9E71-EA2F1A4E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924E-9C78-4C0B-BE47-51DDC87F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6075-6550-4626-848E-1DF2389B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AF88-00E1-4F5A-AD38-9F58552C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C04BC-FFC0-4D19-82C2-7CEFCC5B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BA758-0925-4495-9F27-DFDB970D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F748-5769-4183-9927-07438230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20363-8DD6-4284-A430-F0EE480A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BC4E2-E153-4AC9-8BCE-FF1C0AA4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F9619-F304-4F0B-A36D-0007FC27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7F0E-97D4-4057-972E-E1198899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2EC-E0A4-4621-B870-0914F320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BB64F-80F4-470E-A9EE-DA27BF3A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114D-4539-459C-B788-61DF14C1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D3ED-0371-4AD3-BCE9-B1F52EDD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5CA6D-233C-4A0D-B01E-418DF3A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8FC7-B021-47ED-B6ED-8A4C45EC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8B2BE-14C2-4ABC-A746-86034B3A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CBE19-3118-42CC-BEA9-CEA9159B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F36D-8F72-4477-8EDD-862953AB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F7B30-C5E3-4E56-BE7C-36DED28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53D5D-E97C-4B88-9F8B-B9285D3A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249-7942-4813-B49C-AA33E4EC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94F8-DE8A-45A8-9D15-9CC35EFD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40118-5B22-4E99-B2BB-892BB1A3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F76EE-9900-4F9E-80A4-56318FD7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09C14-B1B2-4BD7-8305-6A16B9B2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C851-E8A0-4F1E-B668-8BF3F40E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2B8C-7A79-4EB9-8196-E42A2CF2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04A1A-9416-4E98-8206-71904651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AF036-AF66-4295-9BFE-6C921588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0164-B93E-46F2-B91C-E145B26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E6F4-3079-4CF7-99A2-76AECDE6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C05-248C-48F6-8E1F-E482562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883F-EEB6-46A6-9C59-75C6CC2B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BF656-3855-4FD0-97EF-3652F15C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C0B87-2C8C-44A1-962B-47B72FAA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4D0A1-F0FB-4117-8336-34BDD42E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CB276-58FE-4301-94AB-22C4DBBB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A82D-69F4-4D7D-8ED8-BBD871F3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3E945-BAFA-4B29-BE0A-F7F81852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E75B4-568E-4D5C-9046-5343765B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FA972-EB99-4AF6-BC5B-ADCF0F7E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F1445-5E22-43F4-82F9-78389A9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E24-D829-4D43-8FE7-E328F46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EF7D2-4EF3-4203-85E8-3C534A3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F918-AE94-40E6-A1CF-5951766F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B321B-D444-4853-BDDE-F04E1928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09B7D-3210-4946-A998-65CE6E0D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B9E7E-263B-4613-97B3-F4977180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FB84-3D45-4869-A013-058D680F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A9BE6-FAE9-4534-9827-0FE64086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2C572-31C0-421F-8A22-B3F4C4FC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EB7AD-3DC4-4E58-BFA4-B06ED22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24207-047B-4B0D-99C8-CCD42253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4BF-9383-4F88-B76D-284E190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537CB-16B8-4C8A-9E02-AD1C37BC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96488-6326-4E43-8D9E-C52C6B9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EC3C9-C61C-43D2-AAE1-5DC4074F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4DB1B-A763-48FA-9EA9-2E5A943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C6E00-713B-4F67-A7AA-2B5ACFC4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56FE5-7DF3-4CCF-9DB6-05366162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4447-7F09-48D5-AA37-E670564D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D4EF-0EB8-47D3-8E17-7BAF2581EA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918A-8A6C-492E-8719-0A668628C3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7132-D99F-43E9-AFDE-E5FDD9619E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1D3E-FB8F-4C07-A9FB-3AA2F45124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E1D5-0B23-4168-ADFD-52E1A66039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878F-F9B2-4D04-B042-CCC0C03809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86F2-3185-46C4-A4F0-4E5C22B5C0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DB34-C1D4-4C65-BB53-ABCCD846FC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390680"/>
            <a:ext cx="7826400" cy="2529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1 St. Paul Str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St. Catharines, Ontari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905-641-2252, ext 466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1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0810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Funded by MTCU, Employment Ontario to deliver employment services to the unemploy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9 full service delivery providers across Niagara Reg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cludes 5 main are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Client Service Planning Coordin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Resource and Information Cent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Sear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Matching, Placement and Incent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Reten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ther Employment progra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700" spc="-1" strike="noStrike">
                <a:solidFill>
                  <a:srgbClr val="000000"/>
                </a:solidFill>
                <a:latin typeface="Lucida Sans Unicode"/>
              </a:rPr>
              <a:t>EI status does not determine eligibility for any component of serv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SPC ensures that individuals will have access to the services they need to achieve career and employment 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SPC integrated into all ES components...evolving process...needs do not always reveal themselves at the beginning...emerges throughout the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vailable to everyone: employed, unemployed, underemployed, job seekers, students, emplo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s the information and resources necessary to support ones job search and human resource nee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s computers, fax machine, phone, information on training, resume writing, job board,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52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argeted for unemployed, out of school and legally entitled to work in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Job Sear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45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Individual assistance in establishing an occupational goal, development of a service plan with steps required to meet their training/employment goals and conduct their own job sear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ssistance in looking at training options and applying for Second Career fu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ssessments to determine areas of strength, interests, aptitu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atching unemployed clients with suitable emplo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For individuals who may have barriers to employ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ing financial incentive to employers to help offset costs of tr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roviding mentoring and coaching support during and after the 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 providers in Niaga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42 week support for those who wish to start their own bus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ust be EI attac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Currently on E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On regular EI claim within last 36 month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On parental/maternity benefits within last 60 month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3217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all or visit any Employment Ontario service site for further information or assista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457200" y="77472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40:23Z</dcterms:created>
  <dc:creator>REFIERIMONTE</dc:creator>
  <dc:description/>
  <dc:language>en-US</dc:language>
  <cp:lastModifiedBy>aholmes</cp:lastModifiedBy>
  <dcterms:modified xsi:type="dcterms:W3CDTF">2011-07-08T18:46:51Z</dcterms:modified>
  <cp:revision>11</cp:revision>
  <dc:subject/>
  <dc:title>Niagara College Employment and Training Solutions</dc:title>
</cp:coreProperties>
</file>